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6EA-87A7-4F94-9340-10C8B70C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E3C-680C-4C47-99D4-316FE11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A66-D867-4CD3-897A-90A25CAA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769-CE28-4245-9458-F7010442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D0A-D192-4367-AB6D-272D1EF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CFB-CA77-4F5B-AF76-28E23DB0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EA3-9924-4C46-B1D4-991B0EE7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6AB-591F-45A2-A7BB-14C5A581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044-D438-47D9-ACCF-8CEC92A7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839-4E72-406C-BAEB-F7002E7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799-6C8B-4C05-8D94-6EB88700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142-17A0-4E7A-9DFD-B32C53B3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B154-5997-4951-BA14-9CB0B6A22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LHO NACIONAL DE RECURSOS HIDRÍCO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MARA TÉCNICA DE INTEGRAÇÃO DE PROCEDIMENTOS, AÇÕES DE OUTORGA E AÇÕES REGULADORAS - CTP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RESOLUÇÃO DO ESTADO DO PARANÁ QUE COMPATIBILIZA OS PROCEDIMENTOS DE OUTORGA E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lio Trevi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9/04/2004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3808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97180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40384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de Direito de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038480"/>
            <a:ext cx="42670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3341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334120"/>
            <a:ext cx="35049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33520"/>
            <a:ext cx="25146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828800"/>
            <a:ext cx="24382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365760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609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828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048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RESOLUÇÃO nº 003/04-SEMA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DOE em 03/02/2004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ECRETÁRIO DO ESTADO DE MEIO AMBIENTE E RECURSOS HÍDRICOS, no uso das atribuições que lhe serão conferidas pela Lei n° 10.066, de.07.92, Lei n° 11.352, de 13.02.96, Lei n° 8.485, de 03.06.87, pelo Decreto n° 4.514 de 23.07.01 e Decreto n° 11, de 01.01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integração de procedimentos dos instrumentos da Política Estadual de Recursos Hídricos e da Política Estadual de Meio 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estabelecer os procedimentos a serem adotados para a emissão de Outorga Prévia e a Outorga de Direito de Uso de Recursos Hídricos com a finalidade de integrá-los ao procedimento de Licenci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Art. 1º. Estabelecer procedimentos de integração para emissão da Outorga Prévia, da Outorga de Direito de Uso de Recursos Hídricos e para o Licenciamento Ambiental entre os órgãos do  Sistema S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º. Para fins desta Resolução, serão adotadas as seguintes defini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– Licença Prévia: é a licença concedida na fase preliminar do planejamento de empreendimento ou atividade aprovando sua localização e concepção, atestando a viabilidade ambiental e estabelecendo os requisitos básicos e condicionantes a serem atendidos nas próximas fases de sua implement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– Licença de Instalação: é a licença que autoriza a instalação do empreendimento ou atividade de acordo com as especificações constantes dos planos, programas e projetos aprovados, incluindo as medidas de controle ambiental e demais condicionantes, da qual constituem motivo determina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– Licença de Operação: autoriza a operação da atividade ou empreendimento, após a verificação do efetivo cumprimento do que consta das licenças anteriores, com as medidas de controle ambiental e condicionantes determinadas para a ope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 – Outorga Prévia: ato administrativo com finalidade de declarar a disponibilidade de água para os usos requeridos, que não confere direito de uso de recursos hídricos e se destina a reservar a vazão passível de outorga, possibilitando, aos investidores, o planejamento de empreendimentos que necessitem desse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– Outorga de Direito de Uso de Recursos Hídricos: ato administrativo mediante o qual o órgão gestor de recursos hídricos faculta ao requerente o direito de uso dos recursos hídricos, por prazo determinado, nos termos e condições expressas no respectivo ato, consideradas as legislações específicas v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Art. 3º. No procedimento de Licenciamento Ambiental para atividades, empreendimentos, obras e intervenções utilizadoras de recursos hídricos capazes, sob qualquer forma, de causar degradação ambiental, deverá constar, obrigatoriamente, a Outorga Prévia e a Outorga de Direito de Uso dos Recursos Hídricos, emitidas pela SUDERHSA, sem prejuízo de outras licenças, autorizações e concessões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§ 1º. Nos procedimentos de integração de Licenciamento Ambiental e Outorga, os estudos a serem apresentados pelo empreendedor deverão ser elaborados de forma a atender as exigências articuladas entre a SUDERHSA e 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§ 2º. A Outorga Prévia emitida pela SUDERHSA será apresentada pelo requerente ao IAP ao solicitar a Licença Prévia em se tratando de empreendimentos, atividades ou obras que necessitem de:</a:t>
            </a:r>
            <a:r>
              <a:rPr b="0" lang="pt-BR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 - extração de água de aqüífero subterrâneo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I - lançamento em corpo de água de esgotos e demais resíduos líquidos ou gasosos, tratados ou não, com o fim de sua diluição, transporte ou disposição fi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V – usos de recursos hídricos para aproveitamento de potenciais hidrelét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 – intervenções de macrodrenagem urbana para retificação, canalização, barramento e obras similares que visem ao controle de che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I - outros usos e ações e execução de obras ou serviços necessários a implantação de qualquer intervenção ou empreendimento, que demandem a utilização de recursos hídricos, ou que impliquem em alteração, mesmo que temporária, do regime, da quantidade ou da qualidade da água, superficial ou subterrânea, ou, ainda, que modifiquem o leito e margens dos corpos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 4º. Quando do pedido de Outorga de Direito de Uso de Recursos Hídricos deverá ser apresentada, pelo requerente, a Licença de Instalação ou a Autorização Ambiental, emit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5º. Para os empreendimentos existentes que já tenham Licença de Instalação ou de Operação e que não tenham a Outorga, sendo ela necessária, o requerente deverá regularizar a situação junto a SUDERH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 6º. A Licença de Operação será concedida pelo IAP após a emissão da Outorga de Direito de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7º. A Outorga Prévia para o lançamento de efluentes estará condicionada às  concentrações aceitáveis de parâmetros exig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8º. Nos casos de renovação de Licença de Operação, em que o IAP necessite exigir do requerente modificação em seu empreendimento que afete os usos múltiplos e altere as características de regime, de quantidade ou de qualidade da captação da água ou do lançamento de efluentes, a SUDERHSA deverá ser consultada previamente e o requerente deverá solicitar a SUDERHSA a alteração de sua Outo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9º. A SUDERHSA, quando da análise da renovação da Outorga, informará ao IAP as conclusões alcançadas e as possíveis alterações nas condições de Outorga, para definição das providências necessá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0. Qualquer alteração nos dados técnicos ou operacionais do empreendimento quando houver a utilização dos recursos hídricos e as suas possíveis interferências em outros usos, deverá ser submetida à análise da SUDERHSA e d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1. Esta Resolução entrará em vigor na data de sua publ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itiba, 20 de janeiro d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IZ EDUARDO CHE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ário do Estado de Meio Ambiente 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2:59:21Z</dcterms:created>
  <dc:creator>Ramon</dc:creator>
  <dc:description/>
  <dc:language>en-US</dc:language>
  <cp:lastModifiedBy>Ramon</cp:lastModifiedBy>
  <dcterms:modified xsi:type="dcterms:W3CDTF">2004-04-27T14:41:14Z</dcterms:modified>
  <cp:revision>12</cp:revision>
  <dc:subject/>
  <dc:title>CONSELHO NACIONAL DE RECURSOS HIDRÍCOS  CÂMARA TÉCNICA DE INTEGRAÇÃO DE PROCEDIMENTOS, AÇÕES DE OUTORGA E AÇÕES REGULADORAS - CTPOAR</dc:title>
</cp:coreProperties>
</file>